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B977-DE98-49C3-BF96-BDE19DA59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DBC0-621C-494B-875C-7DAF4204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583B7-36E1-417B-9689-4805F6C7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BBC16-D0CD-484A-B7F0-CD0CC59C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765C0-6DE8-41FD-9ADE-1E06258F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AB9C6C-6E87-4949-AE54-2A4E6581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D4166-7F7A-48A8-813D-59D96613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C0D34-9C0B-4ADB-B449-0CE1ABAD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97321-D1CE-4E79-B009-3D2B734E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76817-99E9-4EC1-AF3C-C4786FAE1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718A3-4573-4B62-AFC1-5A8283E49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3C5F8D-9994-49B6-A98B-76EF4534C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AF26-64EE-4884-9BB7-05C5E81AC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F20F3-950A-4A0E-964E-68A850DE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923C39-39C8-449C-9071-A138BAD0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F9608E-1F1E-4C4C-B1C0-34F76CB2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F58ED6-20B2-487C-954A-3BE6F8AD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B0958B-E76F-462D-8C14-29354A2F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E140E4-5564-4AAE-8D18-C8C59D0C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8875D-F06E-40B9-B123-92E4CF2F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5488A-63D6-4C61-B3F5-EB81FE82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DEA6C5-3281-49CD-BF22-62F80536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A45C24-7F78-4C16-9C63-8F5ACC41C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5DC0-4034-41DD-B132-611716E04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50D1D-CC6F-478D-AFAA-96FCA60B3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2253D-5DB1-4735-B767-0FE2A2B24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129B5-F354-4487-B569-9096B5A7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EAF22-2903-4E92-BC5F-14CEE4EE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BCEB6-AA51-44BE-B4A1-70977C33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9EEFF-CBEB-4B49-B740-6591F648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C6FA0-FFF5-4FEE-8712-B2D9EDB2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964EA-2350-4A89-BA7E-EE694AF3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B39AD-73BC-4713-B0CC-31278249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C736F-0930-4F5F-9EB3-374F9645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CDC0-6CE8-4E0B-90B4-10C843E0E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4BAFF-E6D3-413A-A8C5-99C34955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B3E92-CA56-4211-9579-A299B8144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EFB99-1B20-4D6E-8599-E3F09F27D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FE3400-A8E9-49E2-A750-7E22721AF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2DCB79-DB94-4EEA-8DC6-407C700B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B8620D-E574-49CF-A03A-1273DB24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964B4-C87E-483B-A2B6-B4EC0C77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332E49-9A72-479A-8C6A-3390AE13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9FA645-A1AA-46B7-8BB3-EA201493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14A945-2EE6-4BAB-A1EF-85BD3649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A22BE-9F2F-480E-A612-BFAEDA1E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383514-0379-440D-BF4C-4D115420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9527D7-3CCB-439D-993A-2FEE97D0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82B889-8941-4765-A5A1-AECCBFDF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4DB0A8-5EDF-4303-832D-1FFE35E93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8204EB-C0E7-411B-A126-200859D95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368613-210A-45C6-B06F-DF183036C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9D7374-940D-418E-B05A-BDA28F5F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799060-3B71-4EB7-BF63-D04AB4EA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45A458-D891-4DF1-9024-350FC8EE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262C8A-C31B-4445-9D9B-BF7CB2F0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4076-B404-4A6E-9862-1D7115DA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F059C8-6FC9-4A47-A10E-3BCDA82D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2E69D8-206A-4462-BAEB-9B3E7B53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18E44D-23A8-48A8-93BD-7ED5B17C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18B0FC-FBBC-4B07-94B3-51AD3791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1B2759-B6B3-4D5B-A58E-923B2E6D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251950-0355-4C16-A7E2-F7D9C200D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B6198D-FF99-4F55-9845-43A0A5808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125B36-7FF9-4558-954B-AF11348D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CE076B-35BC-4F77-9691-63939495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89A418-B11C-4A79-963F-899B78E7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F629-F168-47CD-A73A-2849360E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AA751C-DD17-4219-A523-92104EB8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E1582C-2631-43E9-82FC-F824CBCD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E20F36-3BE4-4FE1-85A0-19141DF7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560525-EDD1-441A-BC32-00E6C67E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FAA910-76BA-402F-99A1-12F55901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CC3A50-55C4-475A-95B2-C2B2633C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D11327-81A5-4B24-BA53-BC6703FB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8970B2-E38D-4799-892B-91AB349D7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8ECCC4-D872-4828-8647-E091FD01B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CE3C76-CBF8-425F-A14C-027740B9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D4A9-133F-4770-A257-179ED628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C90208-559F-4A83-85BE-FB144F11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26B723-15CA-4D08-BB12-86CDCBC5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CB3DB5-5FD6-4878-A62C-F9581B2D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0C2B0B-D7CA-4559-AFAE-05B4E121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B30F94-86D1-46BF-B745-74D33A11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9024D4-6807-4958-BD11-AB1E50F6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5C8F6B-5ED8-49B6-BBE7-D6D9AADD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6ECFCE-5B40-4635-89C9-30274878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B72917-ECA0-47C4-A7FD-A3529B33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6B1CCA-B26A-4AAA-A247-AC956814F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E72B-E36A-45BF-92B8-7C97BD5F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BCA62E-16D3-42FD-B2D9-82C85246B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8BA16E-1888-4479-B163-16A87EEE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D1DF8E-E9F6-4A54-A330-B3C1B3E7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B0C4EC-313C-42C4-8C76-745273DB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4A66E3-7186-44F4-BFE2-CAB23476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8BBD2F-AEFC-40D2-ADDF-50CA4116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C991A1-F1B7-49D3-881E-53FD28F1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EE4A6E-09EE-4D31-8C4C-735F5FE3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A78570-2CC7-4B16-BAD7-EA564F06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D60CC6-F2DE-491A-BCB6-1069C349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8854-2202-46CF-A244-23189612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DFAD85-523B-48E5-A3E7-24059568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EBC8F2-C2C1-48E8-BA16-01B572F04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D5EB2B-0FAF-4DCD-A1FB-5BE8E224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E2DC09-A168-4218-BFFC-5939D9062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60D0D9-E208-4BD7-AA53-8B303349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2D2EEF-B71C-462B-A177-8F25D97C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ED3BFC-2DFE-47C2-B4F6-28FC9D78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293B0D-8C4A-4D36-8A53-F05A7D60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018A61-ACD9-4972-9503-749E3805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E93D83-B044-4193-AC32-42114290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0866-7B43-4834-AF0D-D44CB7BD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EC45-4958-401B-A55E-FE124B7D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D74A58-DE58-4EB2-8C99-09B04964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1727AB-6ECD-42E7-AA1D-C5E18B6E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D62CF3-C799-4C97-B37D-B86C4B74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EA6251-8742-4554-8097-1BF93CE21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BBA634-AF49-4DFE-8C8D-A4581970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064023-F830-4A62-9A5B-508AD2C9E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835B2E-0A65-4ECC-8520-7849C5A3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04BB70-2797-4788-B0A1-BBBDA13A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1ED72B-0E4B-4CEC-9351-E1A96025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DCBBB7-B1D7-4F0E-A2C2-0541CAD1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B820-234C-42D1-B8E3-A988A428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A67D26-1298-4BCE-92B5-CFD7BD78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4A24E8-810D-41D2-89C9-1BC69A15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1A0B7F-EE75-47DB-8EDA-E090986A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B24AF6-801F-49B9-A0B2-C9E9AB6E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0D5281-3CA0-41E8-A0E3-EECF2EBC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57C14F-FDF9-4739-A585-7C006290C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A8FD97-51B4-4727-BF80-1305EBA4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82B405-75F1-409A-8CAD-34472E5EF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5C4E0F-5269-48AC-9D04-2747EE3A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99F1FE-178A-4738-B094-B8CB56D9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DC13-D860-4A9B-B4E7-17D85141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511D95-5AC2-403F-950F-A7253C39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75FC31-FAD5-4271-9E37-28DE76E2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C0634F-6119-4D9D-A557-45F5E8D1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161B49-0067-457F-A61D-D4CE24E3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C16AA4-9060-44F6-9BCB-2D45D405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DB367D-4D60-4B7C-A2FF-2AD32713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246BC9-765E-4BEE-9853-1A640A74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AE3761-1645-4E04-9368-498B611F3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E11D4B-0330-4E3A-9335-33E47ED3E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A154F5-026F-4C93-AE2C-D40CBC112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1E75-44C7-4B96-BE2D-B4EB5FB9D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B8E021-E541-4874-A2ED-7100A1A1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72121F-E400-44A2-8F2E-D696F39E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160C3A-D0D2-4847-A50E-3B8EA7FA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4D3398-DF14-40C2-B27F-7E3717A0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535D33-3A69-4697-A497-A7254B01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26E222-013B-4E61-9EAC-F77DF632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59839C-6CBD-454F-9FEF-2E07832D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A9FABA-BD00-4B07-9DA3-D8FA46CC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2F8A1F-DC88-437D-88B1-34B81CA3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906D99-B521-4BF0-88D8-E2EEF647A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F0F4-315C-4D84-BD3E-212E5F92A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8DF3C8-4AED-4DA3-B592-EEA2172A0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93BECA-79F4-4D59-90C8-E0038453B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512BB8-7EE0-4F4F-BCC4-EC04547E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EFFC7B-8EE9-48D2-A44C-6C678375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E9B7A0-1689-4186-8CEA-9FBC415B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56B3C3-8BE0-4A34-810D-502C08F7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E06B55-4100-474B-8365-6E24E2E9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9FD8EA-517C-49CF-BF0E-F2E5E6F1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E9BA65-254D-4E92-8F90-74BE73EE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07A343-9076-40DD-BC42-9362B13E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DBE49-586B-4889-AFFD-484E4AE08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0CD710-EE99-4099-A3EB-2451E9D2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C3AF58-E085-48BF-8BDD-B90E06909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FD7AB9-0952-491A-965C-3CD5E852B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490C7-225D-4F2E-ABCC-98C349DB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138CE-8641-490E-9138-C2F78F62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1DEE2-174F-4A13-AB19-5A42FE3C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99CFD-8620-4BC4-8D31-B21820D5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3451-DBAB-4043-B704-0D7A3293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AE075-7E66-44D1-A384-A3AEFA05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44B4D-3362-4309-8BD5-3521219D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0A72B-D913-4F10-877E-373E684A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B8664-1E1B-4EB3-ADC2-6FE81C0B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F7E2F-D6FB-4AFF-9B75-A806A7B7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4AD96-35ED-491C-8FA7-82B191E44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66A8E-FF2D-4524-8EF4-72C9AC381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2FFC6-ED85-474E-8EE3-84B940157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FE0C4-004A-4894-8318-BC5EF2DF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BF325-F7BF-46E0-A268-89FC5C33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E475-9515-4E47-A0A9-26C34E7F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4593E-7F07-4753-BB84-B2911C2A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A1589-A87E-429D-BEBD-A3D3D655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45CB4-B5C6-43BB-BAA8-52AC6839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6D8FD-9165-4693-9D4D-71AE41BA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D80ED-8199-455D-8645-3CB74C32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A5CBB-ABF6-4254-B660-5CEC7AA4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41316-24CD-45E1-9A5C-8E802553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F066C-E68F-4FFB-ACA1-F9F5B7421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9CC63-9467-4CC1-AA59-4E07453C1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5909B-686A-4B4D-A14F-9EAE8DA55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8E1B-C1BF-41D2-9B7B-050E8BB2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731CE-1C33-47F2-B9CC-B4D69391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C1FB1-96D2-491C-B882-4D9F295D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79253-B9E8-4EAC-BB6E-2AEB4EA3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4BE9F-7F08-4A05-9B67-893D2658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8C690-E0D4-4393-BD72-7A9127F4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CA2B4-DC75-4C76-A0A8-DCACD8F1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87875-46A3-4EBA-8D34-E9C6C467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28330-1121-4F1B-BF53-46D8CB87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4C7F4-3C3E-4C85-B3AA-90340293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1811A-B05F-4BB7-807A-B3E2B36C8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FBA3-EB31-4F78-A1BA-6177B243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46A41-184E-42A8-968C-D30E72128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D16AA-7D22-43C6-98CF-C0EACA920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77B8C-8A7D-4E5A-837F-7EB246E9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D7027-CB1D-47B2-8094-331F02B4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4BA50-6E53-4DA9-8D77-1C444447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73846-ED94-45D3-A45A-6255D48E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674EC-9078-4D28-BBA1-573FBCE3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BC11F-CE84-4650-80C4-563ABF48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8A094-DB3B-4110-8F6E-0B009176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FF43E-81C6-453E-BCAE-0CB83D17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1460-6625-4040-A8BF-D9B10744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81AC3-4046-4681-8A47-1EFEF95C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0097B-F802-4CD6-B234-063876FE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ADE9B-4EEC-4867-B747-5C1F6F7EE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5C9AF-D048-472C-B706-F6705408B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47FC6-E3B7-4CB9-BFC8-F7447EC3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D023C-4919-414F-9CAD-132F8C61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9B94E-50C7-4E4B-90BA-C1B171F6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A0C0E-7C69-4983-BDA5-3E054CE6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57E4F-8B9D-4166-9EE0-77057BF5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2CF3D-5BE9-46D5-898E-EEF70382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6A44-4C7C-4957-BF23-E77017DF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000A3-FB24-4522-9418-664C8006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83CBA-1370-4CAF-9993-18C075EB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FB607-EC7A-49FB-8FEC-5DE03163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CD674-16F3-4336-BA82-E16381F63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22135-073B-4A17-B864-3A67DF947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076C7-9ABF-41B7-AFB0-567BF6BC3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36DA9-CE79-4A06-BFF9-1586318A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11A01-6445-4CFC-86D7-BB3D8CC7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61A68-48FD-405A-8735-667363C3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641BA-737D-4B93-9989-EEF09E8C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E29C-724D-48AE-AF9C-F410C741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1B2BD-9BEB-4F53-97F5-0E747E35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04CA2-9D16-4427-BEDE-DC15F09D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C70AE-AE06-40DE-8474-711DD399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4E6B6-F6B7-4D78-A93A-B6B61C26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2E78D-C011-4470-92E9-5BA11182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901D3-7BCD-4AD9-B8A3-1AF93EC95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18D47-1F39-4C0D-8326-569E0EAC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A0B7C-368B-47A8-AD56-2E8A8F7A8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15A76C-22E0-4C9B-9537-D18948BF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178D6-E8CA-40BB-B184-54F43104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2240-036C-4A18-8AED-5BF803695A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F161-6B53-47C1-9B89-4B77652F42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9A1E-656C-4C5A-94DF-8965DCEE8A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E3E7-273F-4F21-A2FD-744AB19E26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FA6C-F59D-401C-9DE0-F8575D56E8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BBFD-844A-4591-9972-C1F711A00F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C21A-A726-4AF7-B9FD-303C3F630F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BE29-3D05-4784-8A91-97A44D7A7B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8BC9-A2E1-44D8-BF22-29BB53E13B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3D9F-52DC-4F2D-8F82-88E3D474E3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8F8B-6457-4540-8224-243C9CDD4D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BD35-866D-47E2-86E9-A2469AB597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25C6-927F-46B2-B9F1-66EC3F9A08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C7BE-7A56-4083-90DD-0100166650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63E8-2186-4803-8726-9F4A403936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5122-1C54-4782-B934-EE01D63D1A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2E0F-85C1-494C-A847-C70FD300A4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B840-8A12-476E-B121-68447753BA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8717-EF66-4A79-81A1-DE5F124562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A7A9-6E8D-4A86-BFA1-ADED60CF8C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A20C-4A4F-40EA-91EB-7A61C1B6E6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EB5E-481F-4CDC-AB9E-371E67A6A7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842C-7213-4BD6-843A-CFF3F86B41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FDA0-BC11-4A2C-BD26-2C82145720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7360-2B61-4B6B-900A-D0F7A648B6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4C52-33E9-41AB-A02D-7B99E4FD44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C981-D9A6-4607-9251-61947C851C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B4E7-3D39-49B8-A64F-23AD2676D6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3564-967D-472E-8CB6-8836DCE440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DFDE-0D93-4DB4-AFA6-A8518DDBDF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3ACD-4989-4A51-A6AE-E960A3AD6B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A92B-4352-4891-A7BB-25B2A7C2A6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EAD2-9F83-415D-84E2-3B49170CCD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5A7F-BB2D-4868-8473-CB3973C2BE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E88E-C311-48D3-9896-A4EDA3F57E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C11B-AE39-4B26-9F29-0E56713DBF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5F60-AD88-410B-B577-D5CFA355BF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6B46-9A87-4855-A3AB-C37C8700A5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C341-BEBD-42BC-8786-A69E9AF27B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B7FD-1081-48F9-BE26-7326F6BE2E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905040" y="2133720"/>
            <a:ext cx="7333920" cy="79056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1743120" y="3770280"/>
            <a:ext cx="56577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85840" y="1284120"/>
            <a:ext cx="8572320" cy="5457960"/>
          </a:xfrm>
          <a:prstGeom prst="rect">
            <a:avLst/>
          </a:prstGeom>
          <a:ln w="0">
            <a:noFill/>
          </a:ln>
        </p:spPr>
      </p:pic>
      <p:pic>
        <p:nvPicPr>
          <p:cNvPr id="924" name="图片 60429" descr=""/>
          <p:cNvPicPr/>
          <p:nvPr/>
        </p:nvPicPr>
        <p:blipFill>
          <a:blip r:embed="rId2"/>
          <a:stretch/>
        </p:blipFill>
        <p:spPr>
          <a:xfrm>
            <a:off x="184320" y="106200"/>
            <a:ext cx="4171680" cy="11620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4341960" y="5157720"/>
            <a:ext cx="431640" cy="12956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3765600" y="5229360"/>
            <a:ext cx="431640" cy="12952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3218040" y="5229360"/>
            <a:ext cx="431640" cy="12952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2641680" y="5157720"/>
            <a:ext cx="431640" cy="12956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2109960" y="5157720"/>
            <a:ext cx="431640" cy="12956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8"/>
          <a:stretch/>
        </p:blipFill>
        <p:spPr>
          <a:xfrm>
            <a:off x="1547640" y="5229360"/>
            <a:ext cx="432000" cy="12952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9"/>
          <a:stretch/>
        </p:blipFill>
        <p:spPr>
          <a:xfrm>
            <a:off x="6084720" y="3745080"/>
            <a:ext cx="432000" cy="11523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0"/>
          <a:stretch/>
        </p:blipFill>
        <p:spPr>
          <a:xfrm>
            <a:off x="6645240" y="3730680"/>
            <a:ext cx="432000" cy="11523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1"/>
          <a:stretch/>
        </p:blipFill>
        <p:spPr>
          <a:xfrm>
            <a:off x="7178760" y="3716280"/>
            <a:ext cx="431640" cy="11527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2"/>
          <a:stretch/>
        </p:blipFill>
        <p:spPr>
          <a:xfrm>
            <a:off x="7740720" y="3730680"/>
            <a:ext cx="431640" cy="11523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3"/>
          <a:stretch/>
        </p:blipFill>
        <p:spPr>
          <a:xfrm>
            <a:off x="8300880" y="3716280"/>
            <a:ext cx="432000" cy="11527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4"/>
          <a:stretch/>
        </p:blipFill>
        <p:spPr>
          <a:xfrm>
            <a:off x="6084720" y="5070600"/>
            <a:ext cx="432000" cy="14540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5"/>
          <a:stretch/>
        </p:blipFill>
        <p:spPr>
          <a:xfrm>
            <a:off x="6630840" y="5084640"/>
            <a:ext cx="432000" cy="14544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6"/>
          <a:stretch/>
        </p:blipFill>
        <p:spPr>
          <a:xfrm>
            <a:off x="7207200" y="5013360"/>
            <a:ext cx="432000" cy="14540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7"/>
          <a:stretch/>
        </p:blipFill>
        <p:spPr>
          <a:xfrm>
            <a:off x="7726320" y="5084640"/>
            <a:ext cx="432000" cy="14544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8"/>
          <a:stretch/>
        </p:blipFill>
        <p:spPr>
          <a:xfrm>
            <a:off x="8317080" y="5084640"/>
            <a:ext cx="431640" cy="14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9410" descr=""/>
          <p:cNvPicPr/>
          <p:nvPr/>
        </p:nvPicPr>
        <p:blipFill>
          <a:blip r:embed="rId1"/>
          <a:stretch/>
        </p:blipFill>
        <p:spPr>
          <a:xfrm>
            <a:off x="652320" y="749160"/>
            <a:ext cx="7839360" cy="58485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4427640" y="765000"/>
            <a:ext cx="576000" cy="4795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7236000" y="765000"/>
            <a:ext cx="576000" cy="4795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5651640" y="1484280"/>
            <a:ext cx="576000" cy="4795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3419640" y="2276640"/>
            <a:ext cx="576000" cy="47916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6"/>
          <a:stretch/>
        </p:blipFill>
        <p:spPr>
          <a:xfrm>
            <a:off x="6156360" y="2276640"/>
            <a:ext cx="576360" cy="4791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7"/>
          <a:stretch/>
        </p:blipFill>
        <p:spPr>
          <a:xfrm>
            <a:off x="4284720" y="3025800"/>
            <a:ext cx="1942920" cy="4795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8"/>
          <a:stretch/>
        </p:blipFill>
        <p:spPr>
          <a:xfrm>
            <a:off x="5724360" y="378936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9"/>
          <a:stretch/>
        </p:blipFill>
        <p:spPr>
          <a:xfrm>
            <a:off x="3132000" y="458136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10"/>
          <a:stretch/>
        </p:blipFill>
        <p:spPr>
          <a:xfrm>
            <a:off x="1547640" y="5359320"/>
            <a:ext cx="1008360" cy="4795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11"/>
          <a:stretch/>
        </p:blipFill>
        <p:spPr>
          <a:xfrm>
            <a:off x="5940360" y="5343480"/>
            <a:ext cx="1944720" cy="4795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12"/>
          <a:stretch/>
        </p:blipFill>
        <p:spPr>
          <a:xfrm>
            <a:off x="5219640" y="6107040"/>
            <a:ext cx="57636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76801" descr=""/>
          <p:cNvPicPr/>
          <p:nvPr/>
        </p:nvPicPr>
        <p:blipFill>
          <a:blip r:embed="rId1"/>
          <a:stretch/>
        </p:blipFill>
        <p:spPr>
          <a:xfrm>
            <a:off x="604800" y="1600200"/>
            <a:ext cx="7934400" cy="36576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"/>
          <a:stretch/>
        </p:blipFill>
        <p:spPr>
          <a:xfrm>
            <a:off x="4427640" y="1628640"/>
            <a:ext cx="1224000" cy="4795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2124000" y="2421000"/>
            <a:ext cx="1224000" cy="47952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4"/>
          <a:stretch/>
        </p:blipFill>
        <p:spPr>
          <a:xfrm>
            <a:off x="5148360" y="2378160"/>
            <a:ext cx="1224000" cy="4795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5"/>
          <a:stretch/>
        </p:blipFill>
        <p:spPr>
          <a:xfrm>
            <a:off x="2843280" y="3156120"/>
            <a:ext cx="1224000" cy="4791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6"/>
          <a:stretch/>
        </p:blipFill>
        <p:spPr>
          <a:xfrm>
            <a:off x="3492360" y="3933720"/>
            <a:ext cx="1008360" cy="4795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7"/>
          <a:stretch/>
        </p:blipFill>
        <p:spPr>
          <a:xfrm>
            <a:off x="5940360" y="3933720"/>
            <a:ext cx="1008000" cy="4795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8"/>
          <a:stretch/>
        </p:blipFill>
        <p:spPr>
          <a:xfrm>
            <a:off x="1936800" y="4667400"/>
            <a:ext cx="100800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58373" descr=""/>
          <p:cNvPicPr/>
          <p:nvPr/>
        </p:nvPicPr>
        <p:blipFill>
          <a:blip r:embed="rId1"/>
          <a:stretch/>
        </p:blipFill>
        <p:spPr>
          <a:xfrm>
            <a:off x="371520" y="28440"/>
            <a:ext cx="8400960" cy="68011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2"/>
          <a:stretch/>
        </p:blipFill>
        <p:spPr>
          <a:xfrm>
            <a:off x="4140360" y="879480"/>
            <a:ext cx="2736720" cy="4795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3"/>
          <a:stretch/>
        </p:blipFill>
        <p:spPr>
          <a:xfrm>
            <a:off x="3995640" y="1643040"/>
            <a:ext cx="2737080" cy="4795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4"/>
          <a:stretch/>
        </p:blipFill>
        <p:spPr>
          <a:xfrm>
            <a:off x="4067280" y="2406600"/>
            <a:ext cx="2736720" cy="4795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5"/>
          <a:stretch/>
        </p:blipFill>
        <p:spPr>
          <a:xfrm>
            <a:off x="4067280" y="3156120"/>
            <a:ext cx="3313080" cy="4791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6"/>
          <a:stretch/>
        </p:blipFill>
        <p:spPr>
          <a:xfrm>
            <a:off x="4572000" y="4048200"/>
            <a:ext cx="1008000" cy="4795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7"/>
          <a:stretch/>
        </p:blipFill>
        <p:spPr>
          <a:xfrm>
            <a:off x="2050920" y="4595760"/>
            <a:ext cx="1008360" cy="4795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8"/>
          <a:stretch/>
        </p:blipFill>
        <p:spPr>
          <a:xfrm>
            <a:off x="6804000" y="4581360"/>
            <a:ext cx="647640" cy="47952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9"/>
          <a:stretch/>
        </p:blipFill>
        <p:spPr>
          <a:xfrm>
            <a:off x="1403280" y="5143680"/>
            <a:ext cx="1800360" cy="47916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10"/>
          <a:stretch/>
        </p:blipFill>
        <p:spPr>
          <a:xfrm>
            <a:off x="1763640" y="5661000"/>
            <a:ext cx="3456000" cy="47952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11"/>
          <a:stretch/>
        </p:blipFill>
        <p:spPr>
          <a:xfrm>
            <a:off x="2036880" y="6208560"/>
            <a:ext cx="64764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图片 57352" descr=""/>
          <p:cNvPicPr/>
          <p:nvPr/>
        </p:nvPicPr>
        <p:blipFill>
          <a:blip r:embed="rId1"/>
          <a:stretch/>
        </p:blipFill>
        <p:spPr>
          <a:xfrm>
            <a:off x="366840" y="620640"/>
            <a:ext cx="8410320" cy="61437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2"/>
          <a:stretch/>
        </p:blipFill>
        <p:spPr>
          <a:xfrm>
            <a:off x="5940360" y="1455840"/>
            <a:ext cx="1800360" cy="4791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3"/>
          <a:stretch/>
        </p:blipFill>
        <p:spPr>
          <a:xfrm>
            <a:off x="5796000" y="2176560"/>
            <a:ext cx="1800360" cy="4791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4"/>
          <a:stretch/>
        </p:blipFill>
        <p:spPr>
          <a:xfrm>
            <a:off x="5724360" y="2895480"/>
            <a:ext cx="1800360" cy="479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5"/>
          <a:stretch/>
        </p:blipFill>
        <p:spPr>
          <a:xfrm>
            <a:off x="5796000" y="3616200"/>
            <a:ext cx="1800360" cy="4795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6"/>
          <a:stretch/>
        </p:blipFill>
        <p:spPr>
          <a:xfrm>
            <a:off x="3981600" y="4508640"/>
            <a:ext cx="576000" cy="4791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7"/>
          <a:stretch/>
        </p:blipFill>
        <p:spPr>
          <a:xfrm>
            <a:off x="2771640" y="5056200"/>
            <a:ext cx="1800360" cy="47952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8"/>
          <a:stretch/>
        </p:blipFill>
        <p:spPr>
          <a:xfrm>
            <a:off x="4067280" y="5589720"/>
            <a:ext cx="1873080" cy="47916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9"/>
          <a:stretch/>
        </p:blipFill>
        <p:spPr>
          <a:xfrm>
            <a:off x="1547640" y="6135840"/>
            <a:ext cx="576360" cy="47916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10"/>
          <a:stretch/>
        </p:blipFill>
        <p:spPr>
          <a:xfrm>
            <a:off x="5479920" y="6121440"/>
            <a:ext cx="139716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2" name="图片 56324" descr=""/>
          <p:cNvPicPr/>
          <p:nvPr/>
        </p:nvPicPr>
        <p:blipFill>
          <a:blip r:embed="rId1"/>
          <a:stretch/>
        </p:blipFill>
        <p:spPr>
          <a:xfrm>
            <a:off x="314280" y="195120"/>
            <a:ext cx="8515440" cy="646776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2"/>
          <a:stretch/>
        </p:blipFill>
        <p:spPr>
          <a:xfrm>
            <a:off x="7885080" y="1773360"/>
            <a:ext cx="576360" cy="47916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3"/>
          <a:stretch/>
        </p:blipFill>
        <p:spPr>
          <a:xfrm>
            <a:off x="7885080" y="3284640"/>
            <a:ext cx="576360" cy="47916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4"/>
          <a:stretch/>
        </p:blipFill>
        <p:spPr>
          <a:xfrm>
            <a:off x="7885080" y="472428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5"/>
          <a:stretch/>
        </p:blipFill>
        <p:spPr>
          <a:xfrm>
            <a:off x="7885080" y="5388120"/>
            <a:ext cx="576360" cy="47916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6"/>
          <a:stretch/>
        </p:blipFill>
        <p:spPr>
          <a:xfrm>
            <a:off x="7942320" y="6194520"/>
            <a:ext cx="57636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0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8" name="图片 55300" descr=""/>
          <p:cNvPicPr/>
          <p:nvPr/>
        </p:nvPicPr>
        <p:blipFill>
          <a:blip r:embed="rId1"/>
          <a:stretch/>
        </p:blipFill>
        <p:spPr>
          <a:xfrm>
            <a:off x="1081080" y="890640"/>
            <a:ext cx="6981840" cy="5076720"/>
          </a:xfrm>
          <a:prstGeom prst="rect">
            <a:avLst/>
          </a:prstGeom>
          <a:ln w="0">
            <a:noFill/>
          </a:ln>
        </p:spPr>
      </p:pic>
      <p:pic>
        <p:nvPicPr>
          <p:cNvPr id="989" name="图片 55302" descr=""/>
          <p:cNvPicPr/>
          <p:nvPr/>
        </p:nvPicPr>
        <p:blipFill>
          <a:blip r:embed="rId2"/>
          <a:stretch/>
        </p:blipFill>
        <p:spPr>
          <a:xfrm>
            <a:off x="1635120" y="1635120"/>
            <a:ext cx="675324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0" name="图片 54276" descr=""/>
          <p:cNvPicPr/>
          <p:nvPr/>
        </p:nvPicPr>
        <p:blipFill>
          <a:blip r:embed="rId1"/>
          <a:stretch/>
        </p:blipFill>
        <p:spPr>
          <a:xfrm>
            <a:off x="295200" y="1243080"/>
            <a:ext cx="8553600" cy="437184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1" descr=""/>
          <p:cNvPicPr/>
          <p:nvPr/>
        </p:nvPicPr>
        <p:blipFill>
          <a:blip r:embed="rId2"/>
          <a:stretch/>
        </p:blipFill>
        <p:spPr>
          <a:xfrm>
            <a:off x="755640" y="4994280"/>
            <a:ext cx="676908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4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18:48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